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00EA-D834-4D07-A659-60BB8E595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8FD8-DCB0-4FB0-801F-E7C9BF0BED9B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BA7-BFEB-4D79-BE44-7380B135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6034-6FF9-4F4E-9BBA-BE248069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1AD4-CF01-4116-AEE0-446AF7D2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15C-EDE6-4426-8354-0AC79C86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179B-8082-44D1-A251-FC141346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12BE-DEAB-4D84-A9FA-8B6BBD07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2D5E-BD24-484C-8BAD-D4AE12ED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B64E-982B-4E50-9815-C37475DD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9D93-2F4D-4C11-852F-ADA59604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7160-2C27-43A8-999A-265D3950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D303-756D-4344-8794-8FF0EC43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CF3-EDBA-4EDF-B599-AFFF60EB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580F-0581-4713-B5AA-4F269996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C1D0-48FF-49AC-AFED-6CA0170E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B426-4C52-456D-9703-1A229706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26D6-429F-411A-B056-6B2834F8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5F3E-4EEC-4C1F-94EA-2D8EEC85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879-AEAF-4CAB-AB11-25ED8487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EC16-FE40-421B-BC98-192C0C97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641-FFA9-4231-A0CF-30359620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F49-03FF-439B-911C-E07369F7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FE16-0C57-41F2-8CB2-AB4A96F4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50F-1814-4567-A0CC-A2CBDC15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3AC-3145-4BD0-A1DF-394F0360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9091-0F5A-4770-90F8-C079137EB3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8E36-38AB-468C-A0AD-7478C8736D40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198D-0C6A-4ABA-9CB6-0FD766240A79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14400" y="22093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Hunter “Rey” Flesch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6A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El 13 de mayo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016760" y="554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1523880" y="457200"/>
            <a:ext cx="5832720" cy="15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Year Long Spanish Portfolio!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3"/>
          <a:stretch/>
        </p:blipFill>
        <p:spPr>
          <a:xfrm>
            <a:off x="2895480" y="4162320"/>
            <a:ext cx="31878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B9B3-D57F-4248-94A0-A2A1D6030EF2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Prueba de Vocabulario #1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I chose this artifact because it shows I understand simple words and their meanings and also shows how I have grown from just knowing a few words to knowing many words and actually having a small conversation.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8162-6946-463A-AC09-D31A144A0B75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2286000" y="2590920"/>
            <a:ext cx="4146480" cy="24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ARTER 2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7820-8466-4E15-B8CC-E426FD126E97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2nd Quarter Goal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1st: Improve spelling words each quiz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2nd: Be able to understand Spanish paragraphs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3rd: Carry out a conversation in Spanish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Reflection:</a:t>
            </a:r>
            <a:r>
              <a:rPr b="0" lang="en-US" sz="25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efefe"/>
                </a:solidFill>
                <a:latin typeface="Arial"/>
              </a:rPr>
              <a:t>I am doing very well with each of these goals. I have learned likes and dislikes, things that describe someone, and how to ask what someone likes to do/what they are like..</a:t>
            </a:r>
            <a:endParaRPr b="0" lang="en-US" sz="21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efefe"/>
                </a:solidFill>
                <a:latin typeface="Arial"/>
              </a:rPr>
              <a:t>I think I should modify the 2nd and 3rd goals because I think that I have proved to myself that I can carry out a simple conversation and have been able to understand paragraphs in spanish.</a:t>
            </a:r>
            <a:endParaRPr b="0" lang="en-US" sz="21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efefe"/>
                </a:solidFill>
                <a:latin typeface="Arial"/>
              </a:rPr>
              <a:t>Revised Goals: 1st: Improve spelling words each quiz</a:t>
            </a:r>
            <a:endParaRPr b="0" lang="en-US" sz="21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efefe"/>
                </a:solidFill>
                <a:latin typeface="Arial"/>
              </a:rPr>
              <a:t>2nd: Improve writing words on timed writing</a:t>
            </a:r>
            <a:endParaRPr b="0" lang="en-US" sz="21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efefe"/>
                </a:solidFill>
                <a:latin typeface="Arial"/>
              </a:rPr>
              <a:t>3rd: Be able to read a small story with few errors.</a:t>
            </a:r>
            <a:endParaRPr b="0" lang="en-US" sz="21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8A64-059E-4066-9E60-732C884D8185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</a:rPr>
              <a:t>Mad Hot Ballroom-Cultural Artifact</a:t>
            </a:r>
            <a:endParaRPr b="1" lang="en-US" sz="32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This artifact is a cultural artifact. I chose to include it because I think it shows something new that I learned about things that are important to the Spanish culture. Mad Hot Ballroom is a Spanish video about kids in school that are put into a dancing class. I completed this activity by watching the video and answering the questions about it. This demonstrates my learning because it shows that I have learned that dancing is an important aspect in the Spanish culture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AEDC-B616-48CF-8BE1-5C338FC14E1C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</a:rPr>
              <a:t>Cuento Progresivo-Growth Artifact</a:t>
            </a:r>
            <a:endParaRPr b="1" lang="en-US" sz="32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This artifact is a growth artifact. I chose to include this artifact because it demonstrates how far I have come since the beginning of the year in Espanol 1. Cuento Progresivo is a story the class has been writing for a day an a half. I completed this by contributing a sentence that would go well into the story and by finishing the story on my own. This shows my learning in spanish class because I am now able to write a short simple story in spanish.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868E-ECDE-4D9E-BDD8-F8F0AD9EF96E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</a:rPr>
              <a:t>Episodio 6 Translation- Reading</a:t>
            </a:r>
            <a:endParaRPr b="1" lang="en-US" sz="32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This artifact is a reading artifact. This artifact is included because it shows my ability to read and translate Spanish. The Episodios we have been reading for a while and we specifically had to translate the 6th episode which was how I completed this. This translation shows my ability to read Spanish and comprehend it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EB53-4FFE-4488-8120-D9AB6D6E21F0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</a:rPr>
              <a:t>Mis entrevistas-Speaking</a:t>
            </a:r>
            <a:endParaRPr b="1" lang="en-US" sz="32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Mis entrevistas is a speaking artifact. I chose to include this artifact because it is a simple way to show my ability to speak in Spanish. Mis  entrevistas was a speed dating activity where we had to find out more about someone by asking them questions. I completed this activity by asking questions and writing down the answers in Spanish on a small sheet. This represents my learning in Spanish class because I am able to ask questions and carry out conversations in spanish to find more about people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C43A-1889-4352-A994-ADF08C3B7D61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dfd"/>
                </a:solidFill>
                <a:latin typeface="Arial"/>
              </a:rPr>
              <a:t>Poema yo-Writing</a:t>
            </a:r>
            <a:endParaRPr b="1" lang="en-US" sz="36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Poema yo is a writing artifact. I chose to include this artifact because it demonstrates my ability to write in Spanish. For this assignment, we had to write a poem about ourselves and what we do and don’t like to do; we also had to use things that described us and didn’t describe us. I completed this activity by writing the poem and using pictures to represent the adjectives and things I like to do. This demonstrates my ability to write in Spanish because I can now write poems and stories using the things I have learned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0790-125F-4C54-A248-BD8F7CBC6347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2362320" y="2590920"/>
            <a:ext cx="44956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ARTER 3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0FEE-6111-4DB5-B3AE-26EACC3D4772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Goal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1st: Improve spelling words each quiz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2nd: Be able to understand Spanish paragraphs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3rd: Carry out a conversation in Spanish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Reflection: I have been working on these goals each class period. I have learned new pronouns and how to use proper verb endings. I believe that I have been able to accomplish the 2nd goal and have come close to the 1st and 3rd goals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New Goals: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New 2nd Goal: Be able to begin reading simple stories in Spanish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3F21-D470-46E4-B327-5F9E0C1F84E9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Table of Content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Pg 1: Title Page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Pg 2: Table of Contents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Pg 3: Quarter 1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Pg 4: Qrt 1 Goals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Pg 5: Qrt 1 Goals Reflections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Pg 6: Qrt 1 Strategies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Pg 7-10: Qrt 1 Artifacts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Pg 11: Quarter 2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Pg 12: Qrt 2 Goals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Pg 13-17: Qrt 2 Artifacts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Pg 18: Quarter 3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Pg 19: Qrt 3 Goals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Pg 20-24: Qrt 3 Artifacts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Pg 25: Quarter 4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Pg 26-27: Artifact #1 and #2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Pg 28: Entire Year Goals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Pg 29: Reflection of Goals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Pg 30: Reflection of Strategies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Pg 31: Activites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Pg 32: Meaningful Experiences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Pg 33: Future Goals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B3FF-BF36-4097-9528-369A40DC693F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Speaking Artifact: Pasaporte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I included this artifact because it is proof that I can speak spanish and talk to multiple people and hold a conversation with them. The pasaporte serves as a speaking activity where you were to go around school talking to teachers in Spanish and getting their signatures. I would have talked to more teachers if I could have redone this assignment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398B-7D9D-4603-A341-561C7281AA81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efe"/>
                </a:solidFill>
                <a:latin typeface="Arial"/>
              </a:rPr>
              <a:t>Cultural Artifact: Country Activity</a:t>
            </a:r>
            <a:endParaRPr b="1" lang="en-US" sz="36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I included this artifact because it shows the cultural aspects that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we learn in spanish. I was assigned to a country that was given 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certain supplies according to location. This acts like actual 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countries in the world today which helps show how the cultures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are different based off of the money and different supplies they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have. I would have liked a better country because my country 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had one of the worst supplies out of all the countries. This helps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show that I have learned that cultures can be based off of what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a country has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BD6C-17CB-4783-8CE1-82482E404935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dfd"/>
                </a:solidFill>
                <a:latin typeface="Arial"/>
              </a:rPr>
              <a:t>Reading Artifact: “La Calculadora”</a:t>
            </a:r>
            <a:endParaRPr b="1" lang="en-US" sz="36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I chose to include this artifact because this shows my ability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o read in Spanish and to comprehend it. “La Calculadora” is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a song that is about a girl discovering how to pass math by 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using a calculator. There is a lot of vocabulary that I learned 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hrough reading these song lyrics. We had to sing the song and 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hen go through it and find cognates to the English language. I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wouldn’t have done anything different for this artifact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8ED8-259E-4A7A-B9D2-B5519CB23B4D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Original Writing: Thank You Letter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I included this artifact because it demonstrates my ability to write in Spanish. To complete this assignment we had to write a letter to our favorite teacher and tell them why they were our favorite teacher. I wrote my letter to Mr. Huth. This was a good opportunity to use the Spanish that I have learned and use it in a letter. I wouldn’t change anything about this artifact.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6C09-79CA-4702-ACE2-3CA9BDCD578A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dfd"/>
                </a:solidFill>
                <a:latin typeface="Arial"/>
              </a:rPr>
              <a:t>Growth Artifact: Pepe el desordenado</a:t>
            </a:r>
            <a:endParaRPr b="1" lang="en-US" sz="36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Impact"/>
              </a:rPr>
              <a:t>I chose to include this artifact because I think it demonstrates well my growth in Spanish class. Pepe el desordenado is a story that we began reading in class but then had to translate on our owns when Sra. Baedke was absent. I translated basically everything right. If I  could change one thing I would change the parts that I messed up on, which I now understand. This artifact ultimately was a good indicator  of how much I have learned this year in Spanish and how I have grown as a Spanish speaker.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10E4-4A33-4963-BA3B-992AB2640C85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2209680" y="2209680"/>
            <a:ext cx="449604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ARTER 4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E1A4-40EA-462E-802F-A560B491514B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dfd"/>
                </a:solidFill>
                <a:latin typeface="Arial"/>
              </a:rPr>
              <a:t>Artifact #1 - Family Presentation</a:t>
            </a:r>
            <a:endParaRPr b="1" lang="en-US" sz="36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fefe"/>
                </a:solidFill>
                <a:latin typeface="Arial"/>
              </a:rPr>
              <a:t>This artifact is a speaking artifact. I chose to include this artifact because it demonstrates very well my overall growth as a Spanish speaker. I know enough Spanish now that I am able to present information in front of a class. If I had to change one thing, it would be my mistakes on the endings of some words (herman</a:t>
            </a:r>
            <a:r>
              <a:rPr b="1" lang="en-US" sz="2600" spc="-1" strike="noStrike" u="sng">
                <a:solidFill>
                  <a:srgbClr val="fefefe"/>
                </a:solidFill>
                <a:uFillTx/>
                <a:latin typeface="Arial"/>
              </a:rPr>
              <a:t>o</a:t>
            </a:r>
            <a:r>
              <a:rPr b="0" lang="en-US" sz="2600" spc="-1" strike="noStrike">
                <a:solidFill>
                  <a:srgbClr val="fefefe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fefefe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5334120" y="4267080"/>
            <a:ext cx="1752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AF76-DBC3-4186-9305-DBDEBFE11C57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dfd"/>
                </a:solidFill>
                <a:latin typeface="Arial"/>
              </a:rPr>
              <a:t>Artifact #2 - Pobre Ana Quizzes</a:t>
            </a:r>
            <a:endParaRPr b="1" lang="en-US" sz="36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This artifact is a collection of quizzes that is a reading artifact. I chose to include these quizzes because it shows my ability to read Spanish and comprehend it. It shows all of the vocabulary I have learned as well. If I were able to change one thing, I would have studied more over the vocabulary to score better on a couple of quizzes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6324480" y="4267080"/>
            <a:ext cx="17528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76BF-485F-4AD1-8D40-ABA5317A575C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fdfd"/>
                </a:solidFill>
                <a:latin typeface="Arial"/>
              </a:rPr>
              <a:t>Entire Year - Goals</a:t>
            </a:r>
            <a:endParaRPr b="1" lang="en-US" sz="40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efefe"/>
                </a:solidFill>
                <a:uFillTx/>
                <a:latin typeface="Arial"/>
              </a:rPr>
              <a:t>Quarter 1</a:t>
            </a: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: Pronounce 85% of words correctly. Improve spelling words each quiz. Have a conversation without any specific things to say.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efefe"/>
                </a:solidFill>
                <a:uFillTx/>
                <a:latin typeface="Arial"/>
              </a:rPr>
              <a:t>Quarter 2</a:t>
            </a: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: Improve spelling words each quiz. Improve writing words on timed writing. Be able to read a small story with few errors.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efefe"/>
                </a:solidFill>
                <a:uFillTx/>
                <a:latin typeface="Arial"/>
              </a:rPr>
              <a:t>Quarter 3</a:t>
            </a: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: Improve spelling words each quiz. Be able to understand Spanish paragraphs. Carry out a good conversation in Spanish.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efefe"/>
                </a:solidFill>
                <a:uFillTx/>
                <a:latin typeface="Arial"/>
              </a:rPr>
              <a:t>Quarter 4</a:t>
            </a: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: Improve spelling words each quiz. Be able to begin reading simple stories in Spanish. Carry out a good conversation in Spanish.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D669-A8F1-4F32-994B-4BD9B9F029C6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dfd"/>
                </a:solidFill>
                <a:latin typeface="Arial"/>
              </a:rPr>
              <a:t>Reflection of Goals</a:t>
            </a:r>
            <a:endParaRPr b="1" lang="en-US" sz="36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efefe"/>
                </a:solidFill>
                <a:uFillTx/>
                <a:latin typeface="Arial"/>
              </a:rPr>
              <a:t>Quarter 1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: I was able to complete the 1st and 3rd goal right away which helped me strive forward in Spanish.  The 2nd goal, spelling words, is an ongoing goal that I continue to work on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efefe"/>
                </a:solidFill>
                <a:uFillTx/>
                <a:latin typeface="Arial"/>
              </a:rPr>
              <a:t>Quarter 2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: Again, I am still working on spelling words as a goal. I wanted to try and improve my timed writing but I don’t believe we ever did another one. I was able to read a small story, Felipe, with few errors on the test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efefe"/>
                </a:solidFill>
                <a:uFillTx/>
                <a:latin typeface="Arial"/>
              </a:rPr>
              <a:t>Quarter 3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: I am continuing to get better at spelling words. I was able to read Spanish paragraphs with no mistakes at all which is a giant leap as a Spanish speaker for me. I am now able to carry out a good conversation with maybe an error or two but less than when I first started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efefe"/>
                </a:solidFill>
                <a:uFillTx/>
                <a:latin typeface="Arial"/>
              </a:rPr>
              <a:t>Quarter 4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: Lastly with the same goal of continuing to spell words better, my greatest goal this year was to read a simple story in Spanish and I have done it by reading “Pobre Ana”. I am also now able to carry out a good conversation because of the practice and new vocabulary I have obtained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A307-2095-4271-9B15-57CC618A0922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2362320" y="2743200"/>
            <a:ext cx="4120920" cy="20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ARTER 1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F6B8-ED4D-4DAC-A360-E4BB375154BE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</a:rPr>
              <a:t>Reflection of Strategies</a:t>
            </a:r>
            <a:endParaRPr b="1" lang="en-US" sz="32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efefe"/>
                </a:solidFill>
                <a:latin typeface="Arial"/>
              </a:rPr>
              <a:t>Listening: To listen to everyone’s questions and learn from them. Usually I had the same questions as other people.</a:t>
            </a:r>
            <a:endParaRPr b="0" lang="en-US" sz="19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efefe"/>
                </a:solidFill>
                <a:latin typeface="Arial"/>
              </a:rPr>
              <a:t>Speaking: To think about what the word meant and see if it made sense, then ask a question if it still didn’t make sense</a:t>
            </a:r>
            <a:endParaRPr b="0" lang="en-US" sz="19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efefe"/>
                </a:solidFill>
                <a:latin typeface="Arial"/>
              </a:rPr>
              <a:t>Reading: If I didn’t understand something, I would look for context clues to help me figure it out which helped me study. Then I would ask a question if I still didn’t understand it.</a:t>
            </a:r>
            <a:endParaRPr b="0" lang="en-US" sz="19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efefe"/>
                </a:solidFill>
                <a:latin typeface="Arial"/>
              </a:rPr>
              <a:t>Writing: To write the word according to which vowel I heard and then just go from there. It ended up helping me study and help me learn vocabulary.</a:t>
            </a:r>
            <a:endParaRPr b="0" lang="en-US" sz="19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efefe"/>
                </a:solidFill>
                <a:latin typeface="Arial"/>
              </a:rPr>
              <a:t>All of these strategies helped me study in class, but they also helped me study outside of class. Once I would learn something new, I would write it down and then be able to study it, practice it, and then memorize it.</a:t>
            </a:r>
            <a:endParaRPr b="0" lang="en-US" sz="19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6BB2-AF2C-403D-8F49-FF9048FFAB1B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Activitie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One of the activities I enjoyed the most was the Pig game. It was fun and easy and it tested your knowledge of vocabulary. You would also know which specific words you needed to study. I also enjoyed dancing, mostly because I like dancing, but I also learned a bit about the Spanish culture.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0E6D-C400-4867-943E-02342FA05AB3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Meaningful Experience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fefe"/>
                </a:solidFill>
                <a:latin typeface="Arial"/>
              </a:rPr>
              <a:t>The most meaningful experience I had in Spanish this year would have been the time I failed my first vocabulary quiz. It showed me that Spanish would not be an easy course to pass. It would take a lot of effort in practice in order to pass. Now I just need to finish off the year strong.</a:t>
            </a:r>
            <a:endParaRPr b="0" lang="en-US" sz="30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948E-B782-4432-BBCD-3592D2A2427D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</a:rPr>
              <a:t>Future Goals</a:t>
            </a:r>
            <a:endParaRPr b="1" lang="en-US" sz="32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My future goal in Spanish is to complete 4 years of Spanish class. Another goal is to continue learning so I am able to understand people who are native speakers. My last goal is to read a somewhat long book in Spanish. Those 3 goals would show how far I have gone in 4 years.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7C27-F15E-403C-A0BD-96DFAB255154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Goal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Pronounce 85% of words correctly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Improve spelling words each quiz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Have a conversation without any specific things given to say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F2EA-11AC-44D1-A292-211471A95BA5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Right now I have completed the first goal. Goals I should keep are the 3rd goal which is to carry out a conversation and the 2nd goal which is improve spelling words each quiz. 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I have learned numbers 1-199, temperatures, telling time, and many words and commands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New 1st Goal: To be able to understand Spanish paragraphs in English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059560" y="304920"/>
            <a:ext cx="485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Reflection of Goals. Qrt. 1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80BF-A641-4757-AA5B-9AACA352C096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Strategie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Practice with family/friends outside of class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Put words in Spanish into situations outside of class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Practice writing words and sentences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Study quizzes to see what words I need to improve on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Practice saying single words at a time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Ask for help and check with the teacher to see if I am pronouncing words correctly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DE6E-9CEF-4280-A7BC-AA908B891E08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Artifact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Prueba de los numeros- 10/10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(Listening)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(Writing) 5/5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Episodio Uno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(Reading)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Prueba de Vocabulario #1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(Growth)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019920" y="228600"/>
            <a:ext cx="2921040" cy="194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3581280" y="2362320"/>
            <a:ext cx="2616480" cy="1630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tretch/>
        </p:blipFill>
        <p:spPr>
          <a:xfrm>
            <a:off x="6477120" y="2209680"/>
            <a:ext cx="2108160" cy="2079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4"/>
          <a:stretch/>
        </p:blipFill>
        <p:spPr>
          <a:xfrm>
            <a:off x="4876920" y="4267080"/>
            <a:ext cx="331452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5ED1-1505-4C6C-8BF4-391F57EBAEA3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Prueba de los numero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I added this artifact because it shows that I can listen well and write the right answer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I also added this artifact because It shows I can write the numbers we learned correctly. I am very happy with this quiz and I will continue to improve as we learn more words and numbers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B184-A326-4AA4-A241-3062911F4116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Episodio Uno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I chose this artifact because it shows that I can read simple Spanish paragraphs for the most part. I can definitely work on understanding each word and its meaning. I will do this by continuing to ask questions in class.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22:05:35Z</dcterms:created>
  <dc:creator>Bill Flesch</dc:creator>
  <dc:description/>
  <dc:language>en-US</dc:language>
  <cp:lastModifiedBy>WCSD</cp:lastModifiedBy>
  <dcterms:modified xsi:type="dcterms:W3CDTF">2011-05-17T00:35:35Z</dcterms:modified>
  <cp:revision>26</cp:revision>
  <dc:subject/>
  <dc:title>PowerPoint Presentation</dc:title>
</cp:coreProperties>
</file>